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4BA-3380-4E3F-8D10-409B13D7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612-02EF-446E-9A24-0B1278F7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47A-EB71-454C-B305-5CAA9461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8CB-6B34-4EB1-9394-9526B28D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CDB-0619-4E6F-9182-92244365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3B3-F333-4A93-9725-5B06EB04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FDA-3440-4006-BAD1-2B525C36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9B5-7E94-4CDC-AD93-93BCA53B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AF1-F0BF-4544-9A1A-BC7A5266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43C-D340-4520-84F0-878EF9A2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4FA-9FDA-4A9F-9A10-84600A95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92B-8186-42BD-90AA-97009736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627A-D078-4AC6-8671-9BB533EEB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29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ب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 يصنع العجائ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ن طلبت تكريسي هل يستجيب الطل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5240" y="0"/>
            <a:ext cx="72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قّدس ذا الجس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95280" y="609480"/>
            <a:ext cx="58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 ضعفه وإثمه به يحلّ للمد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7640" y="0"/>
            <a:ext cx="70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شغل مواه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615600" y="60948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ّساً عواطفي لمجد من أحب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40160" y="0"/>
            <a:ext cx="75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بارك في خدم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56840" y="609480"/>
            <a:ext cx="57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ّساً لمجده كلّي له بجمل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10:40Z</dcterms:modified>
  <cp:revision>4</cp:revision>
  <dc:subject/>
  <dc:title>PowerPoint Presentation</dc:title>
</cp:coreProperties>
</file>